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0996-4467-440E-AE02-3C519D271A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D251-E6EB-4067-852E-85E54742D25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CDCF-9378-4A46-BDE6-5E6B2167025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7E68-8A93-4769-9098-0002F235D63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B5AA-08FC-4F6B-A9B1-C61FA6CDCB1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B517-9DF3-4B16-9B52-EEA4CCC1B9A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385D-F419-487F-808F-9091CA5F5C4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63D9-A626-4D2C-9C23-FA65D579671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F758-389D-4D30-AF84-0F9B1F5A46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F50F-7577-40DD-BD20-7E5BAD476C5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28D1-DA47-4F61-99E6-9211675D5F2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5145-819A-46CD-8CFE-7F5E81797D5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D8EC-B3A3-46C5-AFEC-C278EF4CA6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4D85-456D-4CA3-88F8-17FADD37401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8767-8634-4F9B-99E1-458905754B2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9DC3-DEE6-4A1D-A2B9-1C118768993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77A7-480D-4050-8101-97677F1C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8FA-8718-4D8A-8757-23C2EDA9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CA3-0FBA-4F96-90B0-9E065E81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391-1302-428F-A643-FDA86BE2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376-7953-4BC8-BE77-2D8972FC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2F5-8137-4843-84C6-5B1B067B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5AB-289D-4078-A12D-F590FF95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CCB-DF44-4285-A7D2-D65DCC90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6686-D2A2-4D1E-BBA4-38F23B68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689-76EE-49D8-8E3D-060D00BD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81C7-F9AD-4953-BC0F-26B4313E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C32-859B-4BE6-AAF7-483746BE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2B8D-7F3A-469D-AD7A-628321185F0D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image" Target="../media/image23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Fresh_snow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71840" y="4071600"/>
            <a:ext cx="65721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ыполнила :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ченица 8 «А « класс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орговцева Наталь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уководитель: учитель физики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ащенко Светлана Александров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80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униципальное бюджетное 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Средняя общеобразовательная школа № 19 г. Белово»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лияние атмосферного давления и температуры на формирование снежинок. </a:t>
            </a:r>
            <a:br>
              <a:rPr sz="4300"/>
            </a:br>
            <a:br>
              <a:rPr sz="48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00816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1951 году Международная Комиссия по Снегу и Льду приняла классификацию твёрдых осадков. Согласно ей все снежные кристаллы можно разделить на следующие группы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                       3.                       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                         4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300816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1.Звездчатые дендрит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2.Игл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3.Столбц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4.Столбцы с наконечником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8" name="Рисунок 4" descr="*Дендриты (деревоподобные) снежинки"/>
          <p:cNvPicPr/>
          <p:nvPr/>
        </p:nvPicPr>
        <p:blipFill>
          <a:blip r:embed="rId2"/>
          <a:stretch/>
        </p:blipFill>
        <p:spPr>
          <a:xfrm>
            <a:off x="4067280" y="404640"/>
            <a:ext cx="201744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*Иглы"/>
          <p:cNvPicPr/>
          <p:nvPr/>
        </p:nvPicPr>
        <p:blipFill>
          <a:blip r:embed="rId3"/>
          <a:stretch/>
        </p:blipFill>
        <p:spPr>
          <a:xfrm>
            <a:off x="4067280" y="3017880"/>
            <a:ext cx="2089080" cy="2066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*Колонны"/>
          <p:cNvPicPr/>
          <p:nvPr/>
        </p:nvPicPr>
        <p:blipFill>
          <a:blip r:embed="rId4"/>
          <a:stretch/>
        </p:blipFill>
        <p:spPr>
          <a:xfrm>
            <a:off x="6732720" y="47628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*Колонны с шапками"/>
          <p:cNvPicPr/>
          <p:nvPr/>
        </p:nvPicPr>
        <p:blipFill>
          <a:blip r:embed="rId5"/>
          <a:stretch/>
        </p:blipFill>
        <p:spPr>
          <a:xfrm>
            <a:off x="6659640" y="3017880"/>
            <a:ext cx="1944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472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лоская снежинка образовалась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9-23.11.10 г.,28.-30.11.10г., 18-19.12.10 г.,  14.01.11 г., 27-28.01.11 г.,31.01.11г., 01.02.11г.,06.02.11 г., 26.01.12 г., 14.02.12г., 15.03.12 г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Содержимое 3" descr="плоская снежинка"/>
          <p:cNvPicPr/>
          <p:nvPr/>
        </p:nvPicPr>
        <p:blipFill>
          <a:blip r:embed="rId2"/>
          <a:stretch/>
        </p:blipFill>
        <p:spPr>
          <a:xfrm>
            <a:off x="1917720" y="1785960"/>
            <a:ext cx="5308560" cy="478620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плоская снежинка"/>
          <p:cNvPicPr/>
          <p:nvPr/>
        </p:nvPicPr>
        <p:blipFill>
          <a:blip r:embed="rId3"/>
          <a:stretch/>
        </p:blipFill>
        <p:spPr>
          <a:xfrm>
            <a:off x="1908000" y="1773360"/>
            <a:ext cx="5308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реугольная снежинка образовалась 24.11.10г. при влажности 94 %, атмосферном давлении750 мм.рт.ст., температуре -2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5" descr="Описание: http://uvovki.obychnogo.net/files/u1/sneginka06.jpg"/>
          <p:cNvPicPr/>
          <p:nvPr/>
        </p:nvPicPr>
        <p:blipFill>
          <a:blip r:embed="rId2"/>
          <a:stretch/>
        </p:blipFill>
        <p:spPr>
          <a:xfrm>
            <a:off x="2928960" y="1714680"/>
            <a:ext cx="4105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родолговатая снежинка образовалась 25.11.10г. при влажности 92 %, атмосферном давлении749 мм.рт.ст. и температуре -5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Содержимое 3" descr="продолговатая снежинка"/>
          <p:cNvPicPr/>
          <p:nvPr/>
        </p:nvPicPr>
        <p:blipFill>
          <a:blip r:embed="rId2"/>
          <a:stretch/>
        </p:blipFill>
        <p:spPr>
          <a:xfrm>
            <a:off x="1857240" y="1928880"/>
            <a:ext cx="557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 15.02.12 г. при влажности  86 % , атмосферном давлении761 мм.рт.ст. ,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емпературе -2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Содержимое 3" descr="http://uvovki.obychnogo.net/files/u1/sneginka08.jpg"/>
          <p:cNvPicPr/>
          <p:nvPr/>
        </p:nvPicPr>
        <p:blipFill>
          <a:blip r:embed="rId2"/>
          <a:stretch/>
        </p:blipFill>
        <p:spPr>
          <a:xfrm rot="21370800">
            <a:off x="2252520" y="1886040"/>
            <a:ext cx="480852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15.01.11. при влажности 93 %, атмосферном давлении758 мм.рт.ст. , температуре -1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Содержимое 3" descr="древообразная снежинка"/>
          <p:cNvPicPr/>
          <p:nvPr/>
        </p:nvPicPr>
        <p:blipFill>
          <a:blip r:embed="rId2"/>
          <a:stretch/>
        </p:blipFill>
        <p:spPr>
          <a:xfrm>
            <a:off x="1766880" y="1600200"/>
            <a:ext cx="561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нежинка-гибрид образовалась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6.12.10г., 24.01.12г., 12.02.12г., 13.02.12г.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Содержимое 3" descr="http://uvovki.obychnogo.net/files/u1/sneginka12.jpg"/>
          <p:cNvPicPr/>
          <p:nvPr/>
        </p:nvPicPr>
        <p:blipFill>
          <a:blip r:embed="rId2"/>
          <a:stretch/>
        </p:blipFill>
        <p:spPr>
          <a:xfrm>
            <a:off x="2286000" y="142884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Снежная пушка , которая покрывает склоны искусственным снегом для раннего катания на лыжах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Documents and Settings\вал\Рабочий стол\общая\Торговцева Н. физика\img.php.jpg"/>
          <p:cNvPicPr/>
          <p:nvPr/>
        </p:nvPicPr>
        <p:blipFill>
          <a:blip r:embed="rId2"/>
          <a:stretch/>
        </p:blipFill>
        <p:spPr>
          <a:xfrm>
            <a:off x="1714680" y="1785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Формы снежино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257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1.Плоск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2.Треуголь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3.Продолговат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4.Древообраз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5.Гибрид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9" name="Рисунок 5" descr="плоская снежинка"/>
          <p:cNvPicPr/>
          <p:nvPr/>
        </p:nvPicPr>
        <p:blipFill>
          <a:blip r:embed="rId2"/>
          <a:stretch/>
        </p:blipFill>
        <p:spPr>
          <a:xfrm>
            <a:off x="4068720" y="333360"/>
            <a:ext cx="1995480" cy="1792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продолговатая снежинка"/>
          <p:cNvPicPr/>
          <p:nvPr/>
        </p:nvPicPr>
        <p:blipFill>
          <a:blip r:embed="rId3"/>
          <a:stretch/>
        </p:blipFill>
        <p:spPr>
          <a:xfrm>
            <a:off x="4071960" y="2462040"/>
            <a:ext cx="2000160" cy="1662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http://uvovki.obychnogo.net/files/u1/sneginka08.jpg"/>
          <p:cNvPicPr/>
          <p:nvPr/>
        </p:nvPicPr>
        <p:blipFill>
          <a:blip r:embed="rId4"/>
          <a:stretch/>
        </p:blipFill>
        <p:spPr>
          <a:xfrm>
            <a:off x="6858000" y="2428920"/>
            <a:ext cx="1857240" cy="1725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Описание: вот из такой красоты состоит снег"/>
          <p:cNvPicPr/>
          <p:nvPr/>
        </p:nvPicPr>
        <p:blipFill>
          <a:blip r:embed="rId5"/>
          <a:stretch/>
        </p:blipFill>
        <p:spPr>
          <a:xfrm>
            <a:off x="6919920" y="357120"/>
            <a:ext cx="1795320" cy="17496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Описание: http://uvovki.obychnogo.net/files/u1/sneginka12.jpg"/>
          <p:cNvPicPr/>
          <p:nvPr/>
        </p:nvPicPr>
        <p:blipFill>
          <a:blip r:embed="rId6"/>
          <a:stretch/>
        </p:blipFill>
        <p:spPr>
          <a:xfrm>
            <a:off x="5572080" y="4429080"/>
            <a:ext cx="1997280" cy="2040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Описание: вот из такой красоты состоит снег"/>
          <p:cNvPicPr/>
          <p:nvPr/>
        </p:nvPicPr>
        <p:blipFill>
          <a:blip r:embed="rId7"/>
          <a:stretch/>
        </p:blipFill>
        <p:spPr>
          <a:xfrm>
            <a:off x="6929280" y="357120"/>
            <a:ext cx="17956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итератур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928440"/>
            <a:ext cx="84009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3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www.o8ode.ru/article/krie/klaccifikacia_cneginok.htm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8%D0%BD%D0%BA%D0%B8&amp;img_url=www.xrest.ru%2Fimages%2Fcollection%2F00296%2F734%2Forigina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D%D0%B0%D1%8F%20%D0%BF%D1%83%D1%88%D0%BA%D0%B0&amp;img_url=www.ledorub.ru%2Fsneg%2Fpic%2Fsg_03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6%ED%E0%FF_%EF%F3%F8%EA%E0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1&amp;text=%D0%B0%D0%BB%D0%BC%D0%B0%D0%B7%D0%BD%D0%B0%D1%8F%20%D0%BF%D1%8B%D0%BB%D1%8C&amp;img_url=img-fotki.yandex.ru%2Fget%2F4808%2Fzenit-ps.7%2F0_54728_b001d21c_X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mbria"/>
              </a:rPr>
              <a:t>Первое сентября . Физика №3 2009г.,стр.45-47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7" name="Picture 1033" descr="image016"/>
          <p:cNvPicPr/>
          <p:nvPr/>
        </p:nvPicPr>
        <p:blipFill>
          <a:blip r:embed="rId2"/>
          <a:stretch/>
        </p:blipFill>
        <p:spPr>
          <a:xfrm>
            <a:off x="6858000" y="4361040"/>
            <a:ext cx="200016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38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исследование влияния атмосферного давления и температуры на формирование снежинок, изучение их форм и видо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" name="Рисунок 3" descr="вот из такой красоты состоит снег"/>
          <p:cNvPicPr/>
          <p:nvPr/>
        </p:nvPicPr>
        <p:blipFill>
          <a:blip r:embed="rId2"/>
          <a:stretch/>
        </p:blipFill>
        <p:spPr>
          <a:xfrm rot="395400">
            <a:off x="4929120" y="2499840"/>
            <a:ext cx="37782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вал\Рабочий стол\29.jpg"/>
          <p:cNvPicPr/>
          <p:nvPr/>
        </p:nvPicPr>
        <p:blipFill>
          <a:blip r:embed="rId3"/>
          <a:stretch/>
        </p:blipFill>
        <p:spPr>
          <a:xfrm rot="20134800">
            <a:off x="336600" y="2169720"/>
            <a:ext cx="304632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uvovki.obychnogo.net/files/u1/sneginka13.jpg"/>
          <p:cNvPicPr/>
          <p:nvPr/>
        </p:nvPicPr>
        <p:blipFill>
          <a:blip r:embed="rId4"/>
          <a:stretch/>
        </p:blipFill>
        <p:spPr>
          <a:xfrm rot="203400">
            <a:off x="2436840" y="4361040"/>
            <a:ext cx="2193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1029" descr="bd07218_"/>
          <p:cNvPicPr/>
          <p:nvPr/>
        </p:nvPicPr>
        <p:blipFill>
          <a:blip r:embed="rId2"/>
          <a:stretch/>
        </p:blipFill>
        <p:spPr>
          <a:xfrm>
            <a:off x="3000240" y="2214720"/>
            <a:ext cx="32148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1.Узнать, при каких погодных условиях формируются снежинки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2. Изучить структуру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3. Выяснить, как на формирование снежинок влияет температура и атмосферное давлени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7" name="Picture 3" descr="10"/>
          <p:cNvPicPr/>
          <p:nvPr/>
        </p:nvPicPr>
        <p:blipFill>
          <a:blip r:embed="rId2"/>
          <a:stretch/>
        </p:blipFill>
        <p:spPr>
          <a:xfrm>
            <a:off x="3214800" y="4357800"/>
            <a:ext cx="2948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Эмпир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Наблюдение (наблюдение формирования снежинок при разных погодных условиях, рассмотрение структуры и форм снежинок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Сравнение (сравнение форм снежинок при разных погодных условиях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Измерение (измерение атмосферного давления, температуры воздуха, влажности воздух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еорет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Изучение и рассмотрение структуры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Рассмотрение  и изучение форм снежинок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2" name="Picture 1024" descr="PE01676_"/>
          <p:cNvPicPr/>
          <p:nvPr/>
        </p:nvPicPr>
        <p:blipFill>
          <a:blip r:embed="rId2"/>
          <a:stretch/>
        </p:blipFill>
        <p:spPr>
          <a:xfrm>
            <a:off x="5072040" y="3500280"/>
            <a:ext cx="3016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ктуальность тем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4" descr="C:\Documents and Settings\вал\Рабочий стол\skidor675.jpg"/>
          <p:cNvPicPr/>
          <p:nvPr/>
        </p:nvPicPr>
        <p:blipFill>
          <a:blip r:embed="rId2"/>
          <a:stretch/>
        </p:blipFill>
        <p:spPr>
          <a:xfrm rot="231000">
            <a:off x="4285800" y="4142880"/>
            <a:ext cx="4591080" cy="2292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0" y="-1976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здание искусственного снега в настоящее время имеет большое значение. Искусственный снег, созданный при помощи снежных пушек,  применяется на горнолыжных курортах для подготовки склонов к катанию, при подготовке горнолыжных трасс к олимпийским игра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ормирование практически любой снежинки начинается с вот такой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"заготовки":</a:t>
            </a: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Содержимое 3" descr="формирование снежинки"/>
          <p:cNvPicPr/>
          <p:nvPr/>
        </p:nvPicPr>
        <p:blipFill>
          <a:blip r:embed="rId2"/>
          <a:stretch/>
        </p:blipFill>
        <p:spPr>
          <a:xfrm>
            <a:off x="1857240" y="1714680"/>
            <a:ext cx="4929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елый снег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Белый цвет снега происходит от заключенного в снежинках воздуха. Свет отражается от поверхностей между кристаллами и воздухом и рассеивается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0" name="Рисунок 3" descr="http://upload.wikimedia.org/wikipedia/commons/thumb/b/b8/Fresh_snow.JPG/250px-Fresh_snow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500280"/>
            <a:ext cx="3887640" cy="2989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upload.wikimedia.org/wikipedia/commons/thumb/7/72/Snow_Scene_at_Shipka_Pass_1.JPG/250px-Snow_Scene_at_Shipka_Pass_1.JPG"/>
          <p:cNvPicPr/>
          <p:nvPr/>
        </p:nvPicPr>
        <p:blipFill>
          <a:blip r:embed="rId4"/>
          <a:stretch/>
        </p:blipFill>
        <p:spPr>
          <a:xfrm>
            <a:off x="5219640" y="3500280"/>
            <a:ext cx="33130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Алмазная пыль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Если мороз около 40°C, то зарождающиеся в атмосфере кристаллики льда выпадают в виде «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алмазной пыли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4" name="Picture 2" descr="C:\Users\ната\Desktop\0_54728_b001d21c_XL.jpg"/>
          <p:cNvPicPr/>
          <p:nvPr/>
        </p:nvPicPr>
        <p:blipFill>
          <a:blip r:embed="rId2"/>
          <a:stretch/>
        </p:blipFill>
        <p:spPr>
          <a:xfrm>
            <a:off x="1744560" y="2708280"/>
            <a:ext cx="51134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18:45Z</dcterms:created>
  <dc:creator>вал</dc:creator>
  <dc:description/>
  <dc:language>en-US</dc:language>
  <cp:lastModifiedBy>КарМаН</cp:lastModifiedBy>
  <dcterms:modified xsi:type="dcterms:W3CDTF">2012-04-13T19:29:42Z</dcterms:modified>
  <cp:revision>63</cp:revision>
  <dc:subject/>
  <dc:title>Муниципальное общеобразовательное учреждение «Средняя общеобразовательная школа № 19 г. Белово»      Влияние внешних факторов на формирование снежинок</dc:title>
</cp:coreProperties>
</file>